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B55-860B-4FF2-AF5F-48A90012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AF4-4684-4262-96CF-383BE62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8C0-F0F3-45F4-A2FD-2900DA65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DF2-71F1-4168-A5A7-9018A2D5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0DD-B322-4611-822A-EFC9FECE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976-7670-4457-894C-27F16544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DFA-E717-42D4-9E15-A43DB298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E50-7061-4439-B149-9785A79D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56E-C1C6-439E-9B47-39421049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984-6954-4394-86D9-85E83C95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B5B-86EC-4F4E-8775-404F64F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A0C-D6B5-46C6-AAC1-81474AC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E677-CAD2-43A1-890E-552F2E2B7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2895480" cy="1886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303120"/>
            <a:ext cx="2590920" cy="152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29400" y="5218200"/>
            <a:ext cx="2438280" cy="156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781680" y="274320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2667240" cy="171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477120" y="228600"/>
            <a:ext cx="2666880" cy="173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505320" y="2590920"/>
            <a:ext cx="228600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6320" y="38160"/>
            <a:ext cx="2514600" cy="194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0" y="5105520"/>
            <a:ext cx="26416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2590920" cy="16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19320" y="502920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192240"/>
            <a:ext cx="2819520" cy="183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124080" y="152280"/>
            <a:ext cx="2895840" cy="1886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705720" y="2709720"/>
            <a:ext cx="2438280" cy="158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553080" y="4964040"/>
            <a:ext cx="2556000" cy="1665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200400" y="2590920"/>
            <a:ext cx="2971800" cy="183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685800" y="5867280"/>
            <a:ext cx="1219320" cy="862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76320" y="4865760"/>
            <a:ext cx="1295280" cy="1001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3352680" y="4952880"/>
            <a:ext cx="2438640" cy="173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7315200" y="914400"/>
            <a:ext cx="167652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6858000" y="223920"/>
            <a:ext cx="1143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1914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581280" y="0"/>
            <a:ext cx="2057400" cy="2017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 rot="1587600">
            <a:off x="2971800" y="3052440"/>
            <a:ext cx="3200400" cy="782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2590920"/>
            <a:ext cx="2590920" cy="1724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324560" y="2438280"/>
            <a:ext cx="159084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692760" y="123840"/>
            <a:ext cx="2451240" cy="1628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0" y="5119560"/>
            <a:ext cx="281952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2-03T19:42:09Z</dcterms:modified>
  <cp:revision>18</cp:revision>
  <dc:subject/>
  <dc:title>Slide 1</dc:title>
</cp:coreProperties>
</file>